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9C5-D366-44AF-BB22-E4FEA533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E07-FAD3-4B8B-862C-C8A9656B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1E7-8612-4CE9-9FDB-668C940D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5412-CB81-4C96-A429-ABFCE2BA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871-7CED-49DC-9B15-F4515F8F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CEBE-13CC-4A5B-BA9E-B2AF82A6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2AF-C674-4825-AA0C-8F9994C2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970-03A4-412E-9164-862A024E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519-23F5-47AF-A364-94F45003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10CF-C229-492B-8FB2-044F0FBC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314E-4417-4549-A6A6-B5573B74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F48-297A-42A8-BD60-F5779444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CC62-F293-4868-8D86-3F1AFA3E8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7294" r="42023" b="3125"/>
          <a:stretch/>
        </p:blipFill>
        <p:spPr>
          <a:xfrm>
            <a:off x="380880" y="152280"/>
            <a:ext cx="7543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7T02:48:30Z</dcterms:created>
  <dc:creator>rkruz</dc:creator>
  <dc:description/>
  <dc:language>en-US</dc:language>
  <cp:lastModifiedBy>rkruz</cp:lastModifiedBy>
  <dcterms:modified xsi:type="dcterms:W3CDTF">2017-12-07T02:49:19Z</dcterms:modified>
  <cp:revision>1</cp:revision>
  <dc:subject/>
  <dc:title>Slide 1</dc:title>
</cp:coreProperties>
</file>