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6EE-E8B9-4BCA-AB83-B4CBF91D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7DB-C4A0-40FE-A3C6-E4D2275B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4C2C-5954-4374-97D9-77056790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0B9-0888-44AD-B802-05D4BE4B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127-A59F-4E08-BCCD-6D9F9D1B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E56-B050-4310-AA23-0244AB0C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4E1-2A4D-43AF-B4B5-1EC90589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F26-CFC9-4556-A81A-D684780D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29D-D9A0-43E7-A4EF-10FCDB40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F6C-B11E-44B1-A4A0-28062BF7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492-B113-48D7-9A3C-AEA93C63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626-1ABA-4D36-9930-33E55577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E84C-62B3-4F99-AC61-0C10C3CB5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7294" r="42023" b="3125"/>
          <a:stretch/>
        </p:blipFill>
        <p:spPr>
          <a:xfrm>
            <a:off x="38088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7T02:48:30Z</dcterms:created>
  <dc:creator>rkruz</dc:creator>
  <dc:description/>
  <dc:language>en-US</dc:language>
  <cp:lastModifiedBy>rkruz</cp:lastModifiedBy>
  <dcterms:modified xsi:type="dcterms:W3CDTF">2017-12-07T02:49:19Z</dcterms:modified>
  <cp:revision>1</cp:revision>
  <dc:subject/>
  <dc:title>Slide 1</dc:title>
</cp:coreProperties>
</file>